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B455-06F8-4062-95E5-787B0422A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8714-0175-4A6F-A72E-C4C3A98025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1462-ED1D-42F7-B39B-6BCDEF29CB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Cortney McG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isa Mon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F203-29B5-4BF1-82DA-3724C8B411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Cortney McG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isa Mon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5EE3-3EFF-4354-888A-ED58CA4FBA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FDA0-5DE1-421E-8690-E042B7F66C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634F-8919-4D4D-B7A3-8FC8499A2B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616B-A84A-4F78-9A6F-513D90FFCE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DF40-1013-41A1-8E6E-4B9472B306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701C-4140-497D-B8B1-E06738A2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44FB-CE65-4016-9F1C-7D4F9ACD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DBE0-F534-42F5-AB91-32CB7B39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3B8-4EBB-44D5-B7EF-FFB6D57A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8383-6E18-4C95-A0FB-9AE9A6DD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41CC-3A92-4210-87D8-0A89F26D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DC5D-8444-4A10-BE59-A9A28B8A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FB8A-E087-4CF8-A31E-ACE8E113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D3A0-8F63-4DAC-A5CC-F0CFD244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E750-2535-483C-BE30-5FD6F0C1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2654-EBA3-427E-8FB1-D624E760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CAE4-381B-48AA-B079-8CD323A4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51C9-4419-483E-9665-2C51A2A0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00C0-05E4-4724-9F2B-B1514539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27B2-1B23-4131-9E54-36813CEB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341E-D96B-433F-96CF-FEF6F085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FDDC-5DE0-4F01-BE8C-31090C85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0AE0-77E3-4272-B19D-301AAAC2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BB21-C179-4E15-AC37-1678CCAE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C1E-A162-4FB0-8DE7-274CF2D3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AED-F44A-4089-B5C8-9109E126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461-1FD8-4BE0-B319-3517D92A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76F-679C-4AE8-8A4D-D405E38B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CA1-49C2-4E15-8812-9FA68A3D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5579-D150-4DA0-82E9-908CAFFDF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5821-CCCA-421E-B08A-39CC1F3D1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Times New Roman"/>
              </a:rPr>
              <a:t>Conjugating</a:t>
            </a:r>
            <a:br>
              <a:rPr sz="10600"/>
            </a:br>
            <a:r>
              <a:rPr b="0" lang="en-US" sz="10600" spc="-1" strike="noStrike">
                <a:solidFill>
                  <a:srgbClr val="ffffff"/>
                </a:solidFill>
                <a:latin typeface="Times New Roman"/>
              </a:rPr>
              <a:t>Verbs </a:t>
            </a:r>
            <a:br>
              <a:rPr sz="10600"/>
            </a:b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in the 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Conditional Tense</a:t>
            </a:r>
            <a:endParaRPr b="0" lang="en-US" sz="8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-30492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The Conditional Tens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5720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conditional tense is used to indicate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woul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n English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The conditional tense is also used to express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possibilit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probabilit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n the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pas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 The conditional tense is sometimes used to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show politenes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 The conditional tense is also used with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if claus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  ch.9,11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njugating in the Conditional </a:t>
            </a:r>
            <a:r>
              <a:rPr b="0" lang="en-US" sz="10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6765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stem is the entire infinitiv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e...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habl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Add the regular conditional ending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</a:rPr>
              <a:t>AR, ER IR Endings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447920" y="1447920"/>
            <a:ext cx="69339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o describe something that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4200" spc="-1" strike="noStrike">
                <a:solidFill>
                  <a:srgbClr val="ffcc00"/>
                </a:solidFill>
                <a:latin typeface="Times New Roman"/>
              </a:rPr>
              <a:t>would</a:t>
            </a: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 happen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54"/>
          <p:cNvSpPr/>
          <p:nvPr/>
        </p:nvSpPr>
        <p:spPr>
          <a:xfrm>
            <a:off x="2803680" y="362268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55"/>
          <p:cNvSpPr/>
          <p:nvPr/>
        </p:nvSpPr>
        <p:spPr>
          <a:xfrm>
            <a:off x="2209680" y="365760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ía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íamo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9"/>
          <p:cNvSpPr/>
          <p:nvPr/>
        </p:nvSpPr>
        <p:spPr>
          <a:xfrm>
            <a:off x="1981080" y="44956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ía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60"/>
          <p:cNvSpPr/>
          <p:nvPr/>
        </p:nvSpPr>
        <p:spPr>
          <a:xfrm>
            <a:off x="1889280" y="5334120"/>
            <a:ext cx="611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ía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ía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Practice Conjugat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143000" y="2209680"/>
            <a:ext cx="8001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Conjugate the following regular verbs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in the future tense: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estudia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habla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sacar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come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vivi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escribir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maneja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lee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repasar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</a:rPr>
              <a:t>Irregular Verbs 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447920" y="121932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verbs have irregular stems but regular endings in the future ten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803680" y="362268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066680" y="26668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cab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b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quer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er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deci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sab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b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hab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b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salir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ld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hacer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ten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nd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pod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d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val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ld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pon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nd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veni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end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</a:rPr>
              <a:t>Sentence Examples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905120" y="23623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990720" y="1600200"/>
            <a:ext cx="800100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Hablar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a con mi hermana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 would talk with my sister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an bailaría el lunes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Juan would dance on Monday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odrían Uds. ayudarme?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ould you all help me?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584360" y="187020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</a:rPr>
              <a:t>Sentence Examples (Cont.)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584360" y="20224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508040" y="2057400"/>
            <a:ext cx="656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508040" y="2022480"/>
            <a:ext cx="664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143000" y="2590920"/>
            <a:ext cx="8001000" cy="40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Limpiarían la casa el martes si hay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tiempo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They will clean the house on Tuesday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if there is time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Cantaríamos en el gimnasio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e would sing in the gym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04:36:59Z</dcterms:created>
  <dc:creator>Socorro McGerty</dc:creator>
  <dc:description/>
  <dc:language>en-US</dc:language>
  <cp:lastModifiedBy>Maple Lake</cp:lastModifiedBy>
  <dcterms:modified xsi:type="dcterms:W3CDTF">2009-04-14T16:37:54Z</dcterms:modified>
  <cp:revision>30</cp:revision>
  <dc:subject/>
  <dc:title>Conjugating –AR Verbs in the Preterite Tense</dc:title>
</cp:coreProperties>
</file>